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3.wmf" ContentType="image/x-wmf"/>
  <Override PartName="/ppt/media/image10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567F-47B7-4832-B7DA-4FA673A64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6C0E-70D5-4AE5-BFE5-4E8DC17C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D6F5-09BE-4674-8623-CB94ABAD2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4F1D-F14F-46EC-9E55-322C7C16D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5972-A83A-4B5B-A446-AA13788A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33BC-1CF2-44AE-89B5-9D0F183F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452E-E5EB-45D9-911B-706DF1E4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1B31-2396-468A-84EF-D545B19D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089C-24B4-462C-AA69-D575D2CE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4EDB-4793-47E3-9AFA-B582668A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60D7-A767-45BC-A2F7-D730B636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BAB7-1D01-46FC-ADFF-8C9CD1EE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5624-0E2E-46E9-BEE0-64B2898A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D8CD-ECFB-43B3-B23C-7015CC10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8D0F-EBBB-46C8-9505-3D86ECAF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904C-E4CC-46A2-95C1-EADEE6A51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6A1A-CA05-4AB5-BCC9-55A557F7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4510-D52C-460A-AA07-E4902858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F957-9DB0-4F1C-8699-D1FC48EA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22D4-BF43-41BD-A3FC-FBE9A937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503B-C9E1-4EA1-895C-47422382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0B8C-5719-45D5-AF7A-DD4076CE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110F-A898-4B60-A440-E19A0D1D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3506-62FD-49E9-9080-D3C51276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75B4-516A-47BB-904E-CF310F2DA2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EDE4-2B5F-4A8B-AA42-6A118A284A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18140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457200"/>
            <a:ext cx="46479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acultad de Ciencias Físicas y Matemátic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partamento de Ingeniería Eléctrica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2590920"/>
            <a:ext cx="57150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Informe final de Seminario de Diseño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LÜFKE: La joyita renovad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3962520"/>
            <a:ext cx="3352680" cy="25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Integrantes: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 J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orge Lemus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Javier Moya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Sebastián Oliva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ablo Sa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Profesor: Rodrigo Pal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Fecha : 3 de octubre de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8140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logo-ing" descr=""/>
          <p:cNvPicPr/>
          <p:nvPr/>
        </p:nvPicPr>
        <p:blipFill>
          <a:blip r:embed="rId1"/>
          <a:stretch/>
        </p:blipFill>
        <p:spPr>
          <a:xfrm>
            <a:off x="1752480" y="-228600"/>
            <a:ext cx="1239840" cy="190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352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28400" y="2209680"/>
            <a:ext cx="35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larmas de em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371600" y="2743200"/>
            <a:ext cx="6095880" cy="37720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962520" y="4495680"/>
            <a:ext cx="60948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4267080"/>
            <a:ext cx="60984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3657600"/>
            <a:ext cx="60948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498492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0000"/>
                </a:solidFill>
                <a:latin typeface="Tahoma"/>
              </a:rPr>
              <a:t>Alarma de Temperat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341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77120" y="441972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0000"/>
                </a:solidFill>
                <a:latin typeface="Tahoma"/>
              </a:rPr>
              <a:t>Alarma de Volt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4495320" y="3276720"/>
            <a:ext cx="2286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053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0000"/>
                </a:solidFill>
                <a:latin typeface="Tahoma"/>
              </a:rPr>
              <a:t>Alarma SobreAmper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523880" y="990720"/>
            <a:ext cx="5410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Soluciones fin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0948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1720" y="213372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Arial"/>
              </a:rPr>
              <a:t>Registro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523880" y="990720"/>
            <a:ext cx="5410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Soluciones fin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990720" cy="8762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806480" y="297180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ediante archivos de 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066680" y="3962520"/>
            <a:ext cx="7418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8" presetSubtype="1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523880" y="990720"/>
            <a:ext cx="5410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Soluciones fin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65200" y="213372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Arial"/>
              </a:rPr>
              <a:t>Venti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276720" y="2376360"/>
          <a:ext cx="531000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376360"/>
                    <a:ext cx="531000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2819520" y="3657600"/>
            <a:ext cx="2743200" cy="2057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4080" y="449568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isipador de c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523880" y="990720"/>
            <a:ext cx="5410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Soluciones fin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pic>
        <p:nvPicPr>
          <p:cNvPr id="199" name="excel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6562440" cy="41241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3352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43240" y="213372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álculo de Efic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523880" y="990720"/>
            <a:ext cx="419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Dificultad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30481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18880" y="274320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3886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92520" y="3581280"/>
            <a:ext cx="55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pacio en el laboratorio de mecá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4724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58680" y="4452840"/>
            <a:ext cx="49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ocimientos sobre electr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5562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27440" y="525780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isponibilidad del a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867280" y="1905120"/>
            <a:ext cx="2819520" cy="15984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62120" y="6324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81000" y="6019920"/>
            <a:ext cx="46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roblemas de último mo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523880" y="990720"/>
            <a:ext cx="419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Conclusion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2743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76800" y="2471760"/>
            <a:ext cx="46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roblemas durante el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4800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41520" y="4572000"/>
            <a:ext cx="61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mparación auto eléctrico-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720" y="5562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39080" y="5334120"/>
            <a:ext cx="406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ficiencia del auto eléc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3276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62320" y="28954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38280" y="3048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e lograron objetivos 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3962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373392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clusión sobre algunos 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523880" y="914400"/>
            <a:ext cx="4419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Motivació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800600" y="4191120"/>
            <a:ext cx="3581280" cy="2506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14400" y="205740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343400" y="1905120"/>
            <a:ext cx="42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xplosión demográfica e incremento de la adquisición de automóvi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48006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ás gases tóxicos en el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46320" y="2895480"/>
            <a:ext cx="358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ás ruido en la ciu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20040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523880" y="914400"/>
            <a:ext cx="4876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Reseña históric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1948680" y="266688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cocia 18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895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3657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93240" y="3429000"/>
            <a:ext cx="45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arreras de autos 1889 y 18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4419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29880" y="4191120"/>
            <a:ext cx="49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esarrollo en los últimos 20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523880" y="990720"/>
            <a:ext cx="40388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Objetivo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39625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ispon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de un sistema de monitoreo eficiente para el auto eléctr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2971800"/>
            <a:ext cx="31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ahoma"/>
              </a:rPr>
              <a:t>OBJETIVO GENERAL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523880" y="990720"/>
            <a:ext cx="40388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Objetivo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400320" y="2209680"/>
            <a:ext cx="38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ahoma"/>
              </a:rPr>
              <a:t>OBJETIVOS ESPECÍFICO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743200"/>
            <a:ext cx="784872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Mejorar las falencias que tiene el conversor digital y el amplificador operacional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ncorporar al auto eléctrico los elementos de monitoreo que aún no se han instalado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ncontrar la posición adecuada del Laptop dentro del auto eléctrico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Añadir o quitar elementos de la interfaz de monitore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Implementar un sistema de registro de las mediciones tomadas en cada viaje.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Buscar la mejor manera de advertir al usuario los problem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Solucionar el problema de la ventilación del controlador del auto.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ocumentar detalladamente todo el desarrollo, es decir, disponer de un manual de usuari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3276720"/>
            <a:ext cx="24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523880" y="990720"/>
            <a:ext cx="4496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Materi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13040" y="259092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uto eléc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41120" y="32004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Lap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4038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39960" y="3733920"/>
            <a:ext cx="38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versor análogo dig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9160" y="4343400"/>
            <a:ext cx="377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mplificado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pe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54080" y="495288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Labvie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5791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64800" y="5486400"/>
            <a:ext cx="35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ensor de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523880" y="990720"/>
            <a:ext cx="5410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Soluciones propuest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97200" y="259092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uidos en las señ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61200" y="3200400"/>
            <a:ext cx="40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stalación de la 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61560" y="3886200"/>
            <a:ext cx="35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larmas de em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2600" y="457200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Arial"/>
              </a:rPr>
              <a:t>Registro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22400" y="533412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Arial"/>
              </a:rPr>
              <a:t>Venti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6248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32480" y="567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91440" y="6019920"/>
            <a:ext cx="34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Arial"/>
              </a:rPr>
              <a:t>Cálculo de la efic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523880" y="990720"/>
            <a:ext cx="5410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Soluciones fin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97200" y="259092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uidos en las señ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61200" y="3200400"/>
            <a:ext cx="40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stalación de la 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61560" y="3886200"/>
            <a:ext cx="35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larmas de em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2600" y="457200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Arial"/>
              </a:rPr>
              <a:t>Registro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22400" y="533412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Arial"/>
              </a:rPr>
              <a:t>Venti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6248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91440" y="6019920"/>
            <a:ext cx="34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Arial"/>
              </a:rPr>
              <a:t>Cálculo de la efic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1440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85240" y="2133720"/>
            <a:ext cx="40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stalación de la 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600200" y="266688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600200" y="26668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523880" y="990720"/>
            <a:ext cx="5410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latin typeface="Arial Black"/>
              </a:rPr>
              <a:t>Soluciones fina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f01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5:43:27Z</dcterms:created>
  <dc:creator>auto</dc:creator>
  <dc:description/>
  <dc:language>en-US</dc:language>
  <cp:lastModifiedBy>auto</cp:lastModifiedBy>
  <dcterms:modified xsi:type="dcterms:W3CDTF">2003-12-01T13:26:52Z</dcterms:modified>
  <cp:revision>12</cp:revision>
  <dc:subject/>
  <dc:title>Presentación de PowerPoint</dc:title>
</cp:coreProperties>
</file>